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5E0-5C63-41F0-B134-CE14DE69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C29-CEA8-4474-B329-F853CB85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C9B-6DAD-4C8C-8907-9A1A3B97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05A-CBB5-4B6C-8FAE-60381DA7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3E9-E73D-4BA8-B550-AC48A584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95C-2931-4F80-A99F-56A82DF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828-4F53-4520-9DE1-DE8C04CC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9E1-51D2-4BE9-9C19-F25E420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B45-908B-4302-9C17-A87C26DC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E0A-4838-4D12-A26F-CF3830D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D11-F015-4B6C-9C1A-0253EAE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822-7303-4B9E-B300-E1C2B43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FCEAA-DC1B-4EE8-9B6E-361CA5DEF29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D1EBB-0F11-4FB1-AE8A-F1A0411B38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Makes an Interest Group Successful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" name="Group 17"/>
          <p:cNvGrpSpPr/>
          <p:nvPr/>
        </p:nvGrpSpPr>
        <p:grpSpPr>
          <a:xfrm>
            <a:off x="457200" y="1523880"/>
            <a:ext cx="8229240" cy="4799880"/>
            <a:chOff x="457200" y="1523880"/>
            <a:chExt cx="8229240" cy="4799880"/>
          </a:xfrm>
        </p:grpSpPr>
        <p:pic>
          <p:nvPicPr>
            <p:cNvPr id="45" name="Picture 15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8229240" cy="8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6" descr=""/>
            <p:cNvPicPr/>
            <p:nvPr/>
          </p:nvPicPr>
          <p:blipFill>
            <a:blip r:embed="rId3"/>
            <a:stretch/>
          </p:blipFill>
          <p:spPr>
            <a:xfrm>
              <a:off x="457200" y="2262600"/>
              <a:ext cx="8227440" cy="406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rprising Ineffectiveness of Large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group:  all the people who might be interest group members because they share a common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ual group: the part of the potential group consisting of members who actually jo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ctive good: something of value that cannot be withheld from a group 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mall groups are better organized and more focused on the group’s goa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national corporations are successful because there are few of them and, therefore, have an easier time organizing for political 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er groups have a difficult time getting significant policy gains because the benefits are spread over the entire popul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blic interest lobbies seek “a collective good, the achievement of which will not selectively and materially benefit the membership activities of the organization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gle-Issue groups: groups that focus on a narrow interest, dislike compromise, and often draw membership from people new to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ups may focus on an emotional issue, providing them with a psychological advant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nsity encourages non-conventional means of participation, i.e.—prot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ncial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all groups have equal amounts of mon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netary donations usually translate into access to the politicians, such as a phone call, meeting, or support for polic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lthier groups have more resources—and presumably more access—but they do not always win on polic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e-Rider Probl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me people don’t join interest groups because they benefit from the group’s activities without officially join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gger the group, larger the probl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rge groups are difficult to organi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lson’s law of large group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arger the group, the further it will fall short of providing an optimal amount of a collective good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vercome Olson’s law by providing selective benefits: Goods that a group can restrict to those who pay their annual d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59:35Z</dcterms:created>
  <dc:creator>FAdmin</dc:creator>
  <dc:description/>
  <dc:language>en-US</dc:language>
  <cp:lastModifiedBy>FAdmin</cp:lastModifiedBy>
  <dcterms:modified xsi:type="dcterms:W3CDTF">2012-01-02T15:02:00Z</dcterms:modified>
  <cp:revision>1</cp:revision>
  <dc:subject/>
  <dc:title>What Makes an Interest Group Successful? </dc:title>
</cp:coreProperties>
</file>